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2578-9BA7-491F-8A80-4D74FC6342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3C77-AE5F-4141-9159-24082F289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98C-FF94-4D9F-88EB-5082A643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AC4-4DD0-4547-BC23-0CADCD2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12C87-B3B5-46F9-AAF6-E5C20515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B28C9-6866-42F7-BDB1-E5A3B6E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8D2AE-D4EE-4352-A8F0-5C3EDF5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12444-D415-4DA2-889A-DA5D140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7C35-5F24-44AC-8B67-9F4D4FB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9ADBE-A3A9-41AA-8432-61C5E7B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70F09-865E-436E-9522-AEC671ED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FFE9F-348F-4C15-AE34-31A01574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6E37C-90F9-4413-AD5A-8948376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9D1-967F-42FF-8C7C-B8BFDB4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234-1753-49AE-94A2-E551E9AA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525D-E974-4C46-B83E-8053C6FD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68DC-F435-470D-A52E-783D471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68A2-BDE5-4FA5-AA57-90B1DC1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1B5-0594-4A62-B672-1D2A456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8EC-1A4E-4329-9035-03F5518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840C-EEFC-451D-BBF5-FC69C9CF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F5E-76BB-4EBF-B0D6-183A4689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927-BC3A-4725-8BE7-A822B6B9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97F-DA43-4B70-8117-80A5081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8A51-C4DD-441F-A84B-3D1AE24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E3B-7A55-42C0-98F3-4971FF2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1605-4ABA-43BD-89D3-65B51995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439-7936-4B26-A376-9977E7D2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EECB-ABF9-4BC4-8737-DED31154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CE63-F4E0-4A30-AAF3-22BEE8FE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B325-37BF-4E72-9CCF-29D57980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42DC-2DFA-4D62-B352-B939CFF9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3BBE-D2DB-4D01-AE63-38E3E5B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FB1-95FA-426B-A614-BF216EE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5F6A-61D8-45EB-8E97-DF1755EE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C555-5D82-4A91-B60E-E320A8F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163A-70B8-473D-96B2-E86A74F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FF80-6F7A-4924-922F-2800E50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332A-0AC3-4AC6-B5DA-59B4578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9B4E-B599-43DC-A981-96683C09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9B61-F0CF-4139-A626-7108CEA4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289D-35BC-4F53-B2B1-9951B09C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81DD-0DB6-4F22-9688-F339641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F129-B82B-4ED8-986A-3FE204F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4E1-E0C2-4C88-A964-77897A1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A777-4714-4C32-8C7B-EC2D1F4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A87C-BE24-4DC6-8573-29078D1D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FF03-29FC-44D8-B80B-EEA1066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D8E4-F2AC-4D52-B507-FD49754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9851-A9A6-4B4F-AC51-E1EF918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6FB4-7C5E-4B02-BE46-5A78F4D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2A25-FD54-4C6B-AD8D-6323B42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6B9E-C5AD-4867-9DAD-451A0C7C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1CE6-EA6C-41DF-89AE-7B0D6C6A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EFBF-2F4A-482E-99C0-019F3479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9E5-BF19-4316-A12B-78038F0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7994-2BA6-42F9-8F6C-5D50841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C12E-EE0E-4BFA-800F-4CEAD55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A853-074F-4BD9-A1D5-543E28E3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F3C7-0ADC-461D-9B33-7C755FC6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BDFA-22FE-4F5F-94E0-C8C4B11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3549-7C7A-4703-A221-8AAC09F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1428-CA46-45E2-8D1E-55CD8A3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15CE-F7C0-4AC9-A18B-FB52CF6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33DE-7D33-4182-A63F-601CD29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E8FA-43DC-40F0-BF37-3E6A71BD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984-7AFC-437E-B803-4C3CB2E9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59EA-1576-4830-B612-DAAF7E38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0555-756A-499B-A9A8-5797A78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86C2-7968-4A41-B71C-12CEDB3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E9D4-5093-42DE-92FE-EEE3FA7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3431-AB6F-4704-96AD-E3068809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EA07B-E24C-4CFF-8F0E-DABEA27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954C-A9A0-457A-A6CF-55D05C4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07BA-C6E5-4608-B2F7-0658405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A8B5E-751D-4A4A-9E31-07EE9C7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11CD-6991-437E-9FD2-D0FA814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C8C-F7BA-4D61-BA7F-E7FF7F3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06E5-2E95-4721-A5BE-73B062F1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579B-FEAB-4BAB-BA1A-D0E4540B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8BD1-1ACC-43AE-B666-88B2925A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E0B5-5CF2-4005-8D5C-9AD948AF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CC392-D32B-4178-A2CA-EEB85772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2D52-0E13-4E27-897E-64F7103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DB7F-EFCC-456D-994C-0A76174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913C-CBE7-4046-94F7-384320B2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7944A-7576-414B-B5F4-635761D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28852-F38D-4531-B4FB-5681EA9A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1A7-D178-463C-984D-BA5713F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FC2B-E11F-444B-9335-02F08F4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3A76-8D28-45BD-84DE-1670412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74F1-6DD8-42AC-9AA6-281CDCAB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5D4D-1630-4029-9AE2-A3AEC1D2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0B36-6ADD-43C5-9608-77D708C1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36DE1-6894-42FF-8A09-C35A9C4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9B1F-40CB-4D0A-93F6-CFC060C4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0D99B-3BBC-4625-AF95-0A8DD11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4093E-11DE-42EB-9E93-B65547D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F2A4-4410-4A14-9D76-77D231E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8F2-8898-45E0-9D76-A2D8738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9F74D-E952-46F7-B2FD-E46ECD4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F178-89A1-4A82-8DEF-D4EE3C4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FFCD-5DBA-4BFF-A2E7-0CF70B23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A898-BE0B-4A35-9018-0375BA4C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B427-DE1E-4B5E-B63E-25402F3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1D31D-7499-4519-8B21-F9DA12D4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62B5B-3DA8-47DE-8DED-7CF04068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811B-A493-43FA-ACB9-52609C9A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0F3A3-081A-4B7F-94E0-765915A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123A7-C79D-4661-AB51-D5973D8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708-785F-46B6-81C0-FD18DD98DF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25B-2506-4D38-A939-BE98C20FD0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58F-D722-4E52-B964-6C0B4D458A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5241-75D1-41E2-97A8-436E2DD887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9241-6535-4261-BC11-8A45C6F11F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706B-D960-401F-AB88-FF8CB4ECA4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A2A-FD27-4D44-B2A3-DB2417F641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438C-85F8-41AD-97C0-457770E279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3F6-7A21-461D-BCCF-E5D813371F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03280" y="529920"/>
            <a:ext cx="818352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ый семинар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еализация адаптированной образовательной программы для детей с ЗПР в условиях общеобразовательной школ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3643200" y="4221000"/>
            <a:ext cx="190512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ая часть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ет состав учебных предметов обязательных предметных областей, которые должны быть реализованы во всех имеющих государственную аккредитацию образовательных организациях, реализующих АООП НОО, и учебное время, отводимое на их изучение по классам (годам) обуч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учебного плана, формируемая участниками образовательных отношени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реализацию особых (специфических) образовательных потребностей, характерных для обучающихся с ЗПР, а также индивидуальных потребностей каждого обучающего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вом классе  и первом дополнительном классах эта часть отсутствуе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68680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99840"/>
            <a:ext cx="837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АООП НОО для обучающихся с ЗПР предусматривает использование базовых учебников для сверстников без ограничений здоровья. С учётом особых образовательных потребностей обучающихся с ЗПР применяются специальные приложения и дидактические материалы (преимущественное использование натуральной и иллюстративной наглядности), рабочие тетради и пр. на бумажных и (или) электронных носителях, обеспечивающих реализацию программы коррекционной работы и специальную поддержку освоения АООП НО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69800" y="19512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требованиями ФГОС НОО обучающихся с ОВЗ внеурочная деятельность организуется по направлениям развития ли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но-нравствен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интеллекту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культур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о-оздоровите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686800" cy="1554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24000" y="126828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коррекционной работе являю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ребенку успеха в различных видах деятельности с целью предупреждения негативного отношения к учёбе, ситуации школьного обучения в целом, повышения мотивации к школьному обучен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324000" y="189000"/>
            <a:ext cx="8351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еся с ЗПР имеют право на прохож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ку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ежуто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й итого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ттестации освоения АООП НОО в иных фор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ьные условия проведения текущей, промежуточной и итоговой (по итогам освоения АООП НОО) аттестации обучающихся с ЗПР включаю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форму организации аттестации (в малой группе, индивидуальную) с учетом особых образовательных потребностей и индивидуальных особенностей обучающихся с ЗПР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ычную обстановку в классе (присутствие своего учителя, наличие привычных для обучающихся опор: наглядных схем, шаблонов общего хода выполнения заданий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тствие в начале работы этапа общей организации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рованные инструкции с учетом особых образовательных потребностей и индивидуальных трудностей обучающихся с ЗП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дифференцированной помощи: стимулирующей, организующей, направляющ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еличение времени на выполнение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организации короткого перерыва (10-15 мин) при нарастании в поведении ребенка проявлений утомления, исто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8893080" cy="1451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39280" y="24210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ис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остранного язы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16000" y="242100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организа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567360" y="1268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РЕАЛИЗУЮ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ДОЛЖНЫ ВХОДИТЬ: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олигофренопедаго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сихологи или педагоги-психоло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адаптивной физ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ботни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 реализации АООП НОО обучающихся с ЗПР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обучения в одном классе с обучающимися, без ограничений здоровь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может временно или постоянно обеспечить (по рекомендации ПМПК) участ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827920" cy="1871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988640"/>
            <a:ext cx="85374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1. АООП НОО,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лжна превышать 25 обучающихся, число обучающихся с ЗПР в классе не должно превышать четыре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альные обучающиеся –не имеющие ограничений по здоровь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2. АООП НОО в классе (группе) не должна превышать 15 челове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58560" y="691920"/>
            <a:ext cx="817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ичество учащихся детей с ОВЗ на ставк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дефектолога (сурдопедагога, тифлопедагога)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логопеда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-психолога на каждые 20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, ассистента (помощника) на каждые 1 - 6 учащихся с ограниченными возможностями здоровь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87440" y="2262240"/>
            <a:ext cx="86868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инистерство образования и науки Российской Федерации утвердило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  государственный образовательный стандарт начального общего образования обучающихся с ограниченными возможностями здоровья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 государственный образовательный стандарт начального общего образования обучающихся с умственной отсталостью (интеллектуальными нарушениям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е стандарты применяется к правоотношениям, возникшим с 1 сентября 2016 год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иц, зачисленных до 1 сентября 2016 г. для обучения по адаптированным образовательным программам осуществляется по ним до завершения обу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арианта АООП НОО для обучающегося с ЗПР осуществляется на основе рекомендаций ПМПК, сформулированных по результатам его комплексного психолого-медико-педагогического обследования, в случае наличия у обучающегося инвалидности - с учетом ИПР и мнения родителей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своения АООП НОО сохраняется возможность перехода обучающегося с одного варианта АООП НОО на другой. Перевод обучающегося с ЗПР с одного варианта программы на другой осуществляется организацией на основании комплексной оценки результатов освоения АООП НОО, по рекомендации ПМПК и с учетом мнения родителей (законных представителей)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85840" y="45684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назначен для образования обучающихся с ЗПР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гших к моменту поступления в школу уровня психофизического развития, близкого возрастной н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зволяющего получить НОО, полностью соответствующее по итоговым достижениям к моменту завершения обучения образованию обучающихся, не имеющих ограничений по возможностям здоровья, в те же с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руктуру АООП НОО обязательно включается Программа коррекционной работы, направленная на развитие социальных (жизненных) компетенций обучающегося и поддержку в освоении АООП Н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285840" y="240480"/>
            <a:ext cx="8715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назначен для образования обучающихся с ЗПР, котор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ются уровнем развития несколько ниже возрастной нор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тставание может проявляться в целом или локально в отдельных функциях (замедленный темп или неравномерное становление познавательной деятель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вариант предполагает пролонгированные сроки обучения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а счет введения первого дополнительн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й является организация специальных условий обучения и воспитания обучающихся с ЗПР, которые включают использование адаптированной образовательной программы, специальных методов обучения и воспитания, проведение индивидуальных и групповых коррекционно-развивающих занятий, направленных на коррекцию недостатков в физическом и (или) психическом развитии и формирование социальных (жизненных) компетен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603360"/>
            <a:ext cx="821520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специальной поддержке обучающихся с ЗПР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собых образовательных потребностей обучающихся с ЗПР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ая поддержка предполагает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формировании адекватных отношений между ребенком, учителями, одноклассниками и другими обучающимися, родителями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по профилактике внутриличностных и межличностных конфликтов в классе, школе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эмоционально комфортной обстановки в классе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освоении нового учебного материала на уроке и, при необходимости, индивидуальной коррекционной помощи в освоении АООП НОО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бучающемуся успеха в доступных ему видах деятельности с целью предупреждения у него негативного отношения к учебе и ситуации школьного обучения в цело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а 7.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ые предметные области учебного плана и учебные предмет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ответствуют ФГОС Н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дел III ФГОС НО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работа осуществляется во внеурочное время в объеме не менее 5 ча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разрабатывается  ОУ самостоятельно 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ФГОС НОО обучающихся с ОВЗ и с учётом Примерной  АООП НОО обучающихся с З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кон РФ «Об образовании», ст. 12.6.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884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должен соответствовать действующему законодательству Российской Федерации в области образования, обеспечивать введение в действие и реализацию требований ФГОС НОО обучающихся с ОВЗ и выполнение гигиенических требований к режиму образовательного процесса, установленных действующим СанПиНом.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2.3286-1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лане представлены семь предметных областей и коррекционно-развивающая обла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лан состоит из двух частей — обязательной части и части, формируемой участниками образовательных отношен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6:55:56Z</dcterms:created>
  <dc:creator>ELENA</dc:creator>
  <dc:description/>
  <dc:language>en-US</dc:language>
  <cp:lastModifiedBy>Ольга Гарголина</cp:lastModifiedBy>
  <dcterms:modified xsi:type="dcterms:W3CDTF">2020-09-25T09:58:43Z</dcterms:modified>
  <cp:revision>159</cp:revision>
  <dc:subject/>
  <dc:title>Разработка адаптированной образовательной  программы для учащихся с ОВЗ в основной школе</dc:title>
</cp:coreProperties>
</file>