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8D35-D4A7-4076-A66F-035FC2737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E90B-1774-4E9C-9B31-D9F2DACAE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488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F65E-7DB0-4953-B8E2-15634EEEA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316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0984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316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0984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1F9C-7B08-49BA-8E38-2CDD1F77C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C932D-5850-49F0-90B0-F9317C3DD0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19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FE38A-DA8A-4B2D-95CB-F525AD8681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19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59B0C-53D9-4630-AFB1-07FBF4DD5C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2D795-8C4E-4CEB-B28B-22CD4A460E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86FC1-B8CD-40EB-93E3-7C03B88DB4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1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F7706-A332-4ECE-B642-CDAFD43FCF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DE33-D236-4373-A10B-5F6968FC9A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19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DFDF-4E7C-4431-8C24-F2B001AE7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488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A7F0F-5D6F-414C-AF90-FB5FA57D69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197BF-E680-42BD-AA39-CA1F96F84A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2B3ED-2138-47A8-B901-5B6E32BF61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488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64E66-B5F7-4D62-B664-E95CB8BB76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316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0984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316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0984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9DF7A-F37D-41A8-99A9-CF8D51E227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19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E7AE-CE4B-4D4A-8F22-A0658E883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FF4B1-0212-4C4E-80F3-A28F27E37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3E86-CB6D-4692-97D6-A616EC1F1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1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EF1E-7FC8-4A70-A04E-AEEACE611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2C5B-5533-495D-8808-CFD7C4070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488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A0435-AD74-4A99-A79E-3520EAA3E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089C-6935-4060-89DB-2F2838805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32840" cy="6923160"/>
            <a:chOff x="0" y="0"/>
            <a:chExt cx="9132840" cy="6923160"/>
          </a:xfrm>
        </p:grpSpPr>
        <p:sp>
          <p:nvSpPr>
            <p:cNvPr id="1" name="AutoShape 2"/>
            <p:cNvSpPr/>
            <p:nvPr/>
          </p:nvSpPr>
          <p:spPr>
            <a:xfrm>
              <a:off x="0" y="3505320"/>
              <a:ext cx="3981600" cy="3116160"/>
            </a:xfrm>
            <a:custGeom>
              <a:avLst/>
              <a:gdLst>
                <a:gd name="textAreaLeft" fmla="*/ 0 w 3981600"/>
                <a:gd name="textAreaRight" fmla="*/ 3981960 w 3981600"/>
                <a:gd name="textAreaTop" fmla="*/ 0 h 3116160"/>
                <a:gd name="textAreaBottom" fmla="*/ 3116520 h 311616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5000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0" y="3962520"/>
              <a:ext cx="3341520" cy="2535120"/>
            </a:xfrm>
            <a:custGeom>
              <a:avLst/>
              <a:gdLst>
                <a:gd name="textAreaLeft" fmla="*/ 0 w 3341520"/>
                <a:gd name="textAreaRight" fmla="*/ 3341880 w 3341520"/>
                <a:gd name="textAreaTop" fmla="*/ 0 h 2535120"/>
                <a:gd name="textAreaBottom" fmla="*/ 2535120 h 253512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3321000" y="5132520"/>
              <a:ext cx="5811840" cy="1485720"/>
            </a:xfrm>
            <a:custGeom>
              <a:avLst/>
              <a:gdLst>
                <a:gd name="textAreaLeft" fmla="*/ 0 w 5811840"/>
                <a:gd name="textAreaRight" fmla="*/ 5812200 w 581184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0" y="831960"/>
              <a:ext cx="1533600" cy="188568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1885680"/>
                <a:gd name="textAreaBottom" fmla="*/ 1886040 h 188568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5060880" y="1440"/>
              <a:ext cx="4068720" cy="3586320"/>
            </a:xfrm>
            <a:custGeom>
              <a:avLst/>
              <a:gdLst>
                <a:gd name="textAreaLeft" fmla="*/ 0 w 4068720"/>
                <a:gd name="textAreaRight" fmla="*/ 4069080 w 4068720"/>
                <a:gd name="textAreaTop" fmla="*/ 0 h 3586320"/>
                <a:gd name="textAreaBottom" fmla="*/ 3586680 h 358632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5595840" y="1440"/>
              <a:ext cx="3457800" cy="2382840"/>
            </a:xfrm>
            <a:custGeom>
              <a:avLst/>
              <a:gdLst>
                <a:gd name="textAreaLeft" fmla="*/ 0 w 3457800"/>
                <a:gd name="textAreaRight" fmla="*/ 3458160 w 3457800"/>
                <a:gd name="textAreaTop" fmla="*/ 0 h 2382840"/>
                <a:gd name="textAreaBottom" fmla="*/ 2383200 h 238284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0" y="1030320"/>
              <a:ext cx="1284120" cy="1268280"/>
            </a:xfrm>
            <a:custGeom>
              <a:avLst/>
              <a:gdLst>
                <a:gd name="textAreaLeft" fmla="*/ 0 w 1284120"/>
                <a:gd name="textAreaRight" fmla="*/ 1284480 w 1284120"/>
                <a:gd name="textAreaTop" fmla="*/ 0 h 1268280"/>
                <a:gd name="textAreaBottom" fmla="*/ 1268280 h 126828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0" y="2452680"/>
              <a:ext cx="1198440" cy="15876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3673440" y="5446800"/>
              <a:ext cx="5040360" cy="1171440"/>
            </a:xfrm>
            <a:custGeom>
              <a:avLst/>
              <a:gdLst>
                <a:gd name="textAreaLeft" fmla="*/ 0 w 5040360"/>
                <a:gd name="textAreaRight" fmla="*/ 5040720 w 50403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0" y="6400800"/>
              <a:ext cx="9132840" cy="44604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0" y="6400800"/>
              <a:ext cx="9132840" cy="52236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0" y="0"/>
              <a:ext cx="9132840" cy="44604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8252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808200" y="363600"/>
              <a:ext cx="5049720" cy="3201840"/>
            </a:xfrm>
            <a:custGeom>
              <a:avLst/>
              <a:gdLst>
                <a:gd name="textAreaLeft" fmla="*/ 0 w 5049720"/>
                <a:gd name="textAreaRight" fmla="*/ 5050080 w 5049720"/>
                <a:gd name="textAreaTop" fmla="*/ 0 h 3201840"/>
                <a:gd name="textAreaBottom" fmla="*/ 3202200 h 320184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2133720" y="465120"/>
              <a:ext cx="3392280" cy="2825640"/>
            </a:xfrm>
            <a:custGeom>
              <a:avLst/>
              <a:gdLst>
                <a:gd name="textAreaLeft" fmla="*/ 0 w 3392280"/>
                <a:gd name="textAreaRight" fmla="*/ 3392640 w 3392280"/>
                <a:gd name="textAreaTop" fmla="*/ 0 h 2825640"/>
                <a:gd name="textAreaBottom" fmla="*/ 2825640 h 282564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4654440" y="2743200"/>
              <a:ext cx="4478400" cy="3745080"/>
            </a:xfrm>
            <a:custGeom>
              <a:avLst/>
              <a:gdLst>
                <a:gd name="textAreaLeft" fmla="*/ 0 w 4478400"/>
                <a:gd name="textAreaRight" fmla="*/ 4478760 w 4478400"/>
                <a:gd name="textAreaTop" fmla="*/ 0 h 3745080"/>
                <a:gd name="textAreaBottom" fmla="*/ 3745440 h 37450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5000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AutoShape 19"/>
            <p:cNvSpPr/>
            <p:nvPr/>
          </p:nvSpPr>
          <p:spPr>
            <a:xfrm>
              <a:off x="5016600" y="2952720"/>
              <a:ext cx="3421080" cy="3059280"/>
            </a:xfrm>
            <a:custGeom>
              <a:avLst/>
              <a:gdLst>
                <a:gd name="textAreaLeft" fmla="*/ 0 w 3421080"/>
                <a:gd name="textAreaRight" fmla="*/ 3421440 w 3421080"/>
                <a:gd name="textAreaTop" fmla="*/ 0 h 3059280"/>
                <a:gd name="textAreaBottom" fmla="*/ 3059640 h 30592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19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Text Box 22"/>
          <p:cNvSpPr/>
          <p:nvPr/>
        </p:nvSpPr>
        <p:spPr>
          <a:xfrm>
            <a:off x="45720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Text Box 23"/>
          <p:cNvSpPr/>
          <p:nvPr/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160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A04B2A-1F0B-4CB7-95F3-F4749465209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"/>
          <p:cNvGrpSpPr/>
          <p:nvPr/>
        </p:nvGrpSpPr>
        <p:grpSpPr>
          <a:xfrm>
            <a:off x="0" y="0"/>
            <a:ext cx="9132840" cy="6923160"/>
            <a:chOff x="0" y="0"/>
            <a:chExt cx="9132840" cy="6923160"/>
          </a:xfrm>
        </p:grpSpPr>
        <p:sp>
          <p:nvSpPr>
            <p:cNvPr id="61" name="AutoShape 2"/>
            <p:cNvSpPr/>
            <p:nvPr/>
          </p:nvSpPr>
          <p:spPr>
            <a:xfrm>
              <a:off x="0" y="3505320"/>
              <a:ext cx="3981600" cy="3116160"/>
            </a:xfrm>
            <a:custGeom>
              <a:avLst/>
              <a:gdLst>
                <a:gd name="textAreaLeft" fmla="*/ 0 w 3981600"/>
                <a:gd name="textAreaRight" fmla="*/ 3981960 w 3981600"/>
                <a:gd name="textAreaTop" fmla="*/ 0 h 3116160"/>
                <a:gd name="textAreaBottom" fmla="*/ 3116520 h 311616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5000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3"/>
            <p:cNvSpPr/>
            <p:nvPr/>
          </p:nvSpPr>
          <p:spPr>
            <a:xfrm>
              <a:off x="0" y="3962520"/>
              <a:ext cx="3341520" cy="2535120"/>
            </a:xfrm>
            <a:custGeom>
              <a:avLst/>
              <a:gdLst>
                <a:gd name="textAreaLeft" fmla="*/ 0 w 3341520"/>
                <a:gd name="textAreaRight" fmla="*/ 3341880 w 3341520"/>
                <a:gd name="textAreaTop" fmla="*/ 0 h 2535120"/>
                <a:gd name="textAreaBottom" fmla="*/ 2535120 h 253512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4"/>
            <p:cNvSpPr/>
            <p:nvPr/>
          </p:nvSpPr>
          <p:spPr>
            <a:xfrm>
              <a:off x="3321000" y="5132520"/>
              <a:ext cx="5811840" cy="1485720"/>
            </a:xfrm>
            <a:custGeom>
              <a:avLst/>
              <a:gdLst>
                <a:gd name="textAreaLeft" fmla="*/ 0 w 5811840"/>
                <a:gd name="textAreaRight" fmla="*/ 5812200 w 581184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AutoShape 5"/>
            <p:cNvSpPr/>
            <p:nvPr/>
          </p:nvSpPr>
          <p:spPr>
            <a:xfrm>
              <a:off x="0" y="831960"/>
              <a:ext cx="1533600" cy="188568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1885680"/>
                <a:gd name="textAreaBottom" fmla="*/ 1886040 h 188568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AutoShape 6"/>
            <p:cNvSpPr/>
            <p:nvPr/>
          </p:nvSpPr>
          <p:spPr>
            <a:xfrm>
              <a:off x="5060880" y="1440"/>
              <a:ext cx="4068720" cy="3586320"/>
            </a:xfrm>
            <a:custGeom>
              <a:avLst/>
              <a:gdLst>
                <a:gd name="textAreaLeft" fmla="*/ 0 w 4068720"/>
                <a:gd name="textAreaRight" fmla="*/ 4069080 w 4068720"/>
                <a:gd name="textAreaTop" fmla="*/ 0 h 3586320"/>
                <a:gd name="textAreaBottom" fmla="*/ 3586680 h 358632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AutoShape 7"/>
            <p:cNvSpPr/>
            <p:nvPr/>
          </p:nvSpPr>
          <p:spPr>
            <a:xfrm>
              <a:off x="5595840" y="1440"/>
              <a:ext cx="3457800" cy="2382840"/>
            </a:xfrm>
            <a:custGeom>
              <a:avLst/>
              <a:gdLst>
                <a:gd name="textAreaLeft" fmla="*/ 0 w 3457800"/>
                <a:gd name="textAreaRight" fmla="*/ 3458160 w 3457800"/>
                <a:gd name="textAreaTop" fmla="*/ 0 h 2382840"/>
                <a:gd name="textAreaBottom" fmla="*/ 2383200 h 238284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AutoShape 8"/>
            <p:cNvSpPr/>
            <p:nvPr/>
          </p:nvSpPr>
          <p:spPr>
            <a:xfrm>
              <a:off x="0" y="1030320"/>
              <a:ext cx="1284120" cy="1268280"/>
            </a:xfrm>
            <a:custGeom>
              <a:avLst/>
              <a:gdLst>
                <a:gd name="textAreaLeft" fmla="*/ 0 w 1284120"/>
                <a:gd name="textAreaRight" fmla="*/ 1284480 w 1284120"/>
                <a:gd name="textAreaTop" fmla="*/ 0 h 1268280"/>
                <a:gd name="textAreaBottom" fmla="*/ 1268280 h 126828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AutoShape 9"/>
            <p:cNvSpPr/>
            <p:nvPr/>
          </p:nvSpPr>
          <p:spPr>
            <a:xfrm>
              <a:off x="0" y="2452680"/>
              <a:ext cx="1198440" cy="15876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10"/>
            <p:cNvSpPr/>
            <p:nvPr/>
          </p:nvSpPr>
          <p:spPr>
            <a:xfrm>
              <a:off x="3673440" y="5446800"/>
              <a:ext cx="5040360" cy="1171440"/>
            </a:xfrm>
            <a:custGeom>
              <a:avLst/>
              <a:gdLst>
                <a:gd name="textAreaLeft" fmla="*/ 0 w 5040360"/>
                <a:gd name="textAreaRight" fmla="*/ 5040720 w 50403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AutoShape 13"/>
            <p:cNvSpPr/>
            <p:nvPr/>
          </p:nvSpPr>
          <p:spPr>
            <a:xfrm>
              <a:off x="0" y="6400800"/>
              <a:ext cx="9132840" cy="44604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AutoShape 14"/>
            <p:cNvSpPr/>
            <p:nvPr/>
          </p:nvSpPr>
          <p:spPr>
            <a:xfrm>
              <a:off x="0" y="6400800"/>
              <a:ext cx="9132840" cy="52236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AutoShape 15"/>
            <p:cNvSpPr/>
            <p:nvPr/>
          </p:nvSpPr>
          <p:spPr>
            <a:xfrm>
              <a:off x="0" y="0"/>
              <a:ext cx="9132840" cy="44604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8252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AutoShape 16"/>
            <p:cNvSpPr/>
            <p:nvPr/>
          </p:nvSpPr>
          <p:spPr>
            <a:xfrm>
              <a:off x="808200" y="363600"/>
              <a:ext cx="5049720" cy="3201840"/>
            </a:xfrm>
            <a:custGeom>
              <a:avLst/>
              <a:gdLst>
                <a:gd name="textAreaLeft" fmla="*/ 0 w 5049720"/>
                <a:gd name="textAreaRight" fmla="*/ 5050080 w 5049720"/>
                <a:gd name="textAreaTop" fmla="*/ 0 h 3201840"/>
                <a:gd name="textAreaBottom" fmla="*/ 3202200 h 320184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AutoShape 17"/>
            <p:cNvSpPr/>
            <p:nvPr/>
          </p:nvSpPr>
          <p:spPr>
            <a:xfrm>
              <a:off x="2133720" y="465120"/>
              <a:ext cx="3392280" cy="2825640"/>
            </a:xfrm>
            <a:custGeom>
              <a:avLst/>
              <a:gdLst>
                <a:gd name="textAreaLeft" fmla="*/ 0 w 3392280"/>
                <a:gd name="textAreaRight" fmla="*/ 3392640 w 3392280"/>
                <a:gd name="textAreaTop" fmla="*/ 0 h 2825640"/>
                <a:gd name="textAreaBottom" fmla="*/ 2825640 h 282564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AutoShape 18"/>
            <p:cNvSpPr/>
            <p:nvPr/>
          </p:nvSpPr>
          <p:spPr>
            <a:xfrm>
              <a:off x="4654440" y="2743200"/>
              <a:ext cx="4478400" cy="3745080"/>
            </a:xfrm>
            <a:custGeom>
              <a:avLst/>
              <a:gdLst>
                <a:gd name="textAreaLeft" fmla="*/ 0 w 4478400"/>
                <a:gd name="textAreaRight" fmla="*/ 4478760 w 4478400"/>
                <a:gd name="textAreaTop" fmla="*/ 0 h 3745080"/>
                <a:gd name="textAreaBottom" fmla="*/ 3745440 h 37450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5000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AutoShape 19"/>
            <p:cNvSpPr/>
            <p:nvPr/>
          </p:nvSpPr>
          <p:spPr>
            <a:xfrm>
              <a:off x="5016600" y="2952720"/>
              <a:ext cx="3421080" cy="3059280"/>
            </a:xfrm>
            <a:custGeom>
              <a:avLst/>
              <a:gdLst>
                <a:gd name="textAreaLeft" fmla="*/ 0 w 3421080"/>
                <a:gd name="textAreaRight" fmla="*/ 3421440 w 3421080"/>
                <a:gd name="textAreaTop" fmla="*/ 0 h 3059280"/>
                <a:gd name="textAreaBottom" fmla="*/ 3059640 h 30592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77547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45720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160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A6BBDC-8BFC-4E34-AF7C-EC361744A88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685800" y="457200"/>
            <a:ext cx="7772400" cy="57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РАЗВИТИЕ СИСТЕМЫ ВЗАИМО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МКУДО ЦППМСП С ОБЩЕОБРАЗОВАТЕЛЬНЫМИ УЧРЕЖДЕНИЯМИ КИРОВСКОГО РАЙОНА ЛЕНИНГРАДСКОЙ ОБЛАСТИ и службами профилак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214200" y="671400"/>
            <a:ext cx="85010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Актуальность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данной проблемы состоит в том, что с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каждым годом увеличивается количество детей имеющих проблемы в развитии связанные с ограниченными возможностями  их здоровья:  нарушением рече-мыслительной деятельности , познавательных процессов,эмоционально-волевой сферы, внимания и поведения, повышенной утомляемостью, нарушением дисгармоничного семейного воспитания (психический инфантилизм, агрессивность , страхи, тревожность) ,  приводяшие к формированию личности по невротическому типу и ПХР. Количество детей, имеющих вышеперечисленные проблемы в развитии ,    составляет 15-16% от обшего числа  ежегодно поступающих в  1-е классы общеобразовательных школ учащихся . Интеграция таких детей в общеобразовательного пространство Кировского района Лен. области безусловно нуждается в особом внимании , поддержке, и индивидуальном подходе в процессе обучения, а следовательно в ПП сопровождении. В связи с тем, что  Территориальная ПМПК работающая на базе МКУДО ЦППМСП занимается выявлением таких детей , специалисты центра берут на себя  обязанности по оказанию консультативной  ПП помощи образовательным учреждениям  района  в организации методического и  ПП сопровождения  а также, индивидуального подхода в обучении с учетом особеностей развития детей.( МПП обследование, консультирование педагогов, родителей, семинаров, практикумов, тренингов, организация работы РМО психологов, дефектологов, проведение  совместных консилиумов. Просветительская работа со СМ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214200" y="67140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"/>
          <p:cNvSpPr/>
          <p:nvPr/>
        </p:nvSpPr>
        <p:spPr>
          <a:xfrm>
            <a:off x="324000" y="404640"/>
            <a:ext cx="85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ЗАДАЧИ ПРОГРАМ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- оказание психолого-педагогической, медицинской и социальной помощи детям, испытывающим трудности в освоении основных общеобразовательных программ, развитии и социальной адаптации, в том числе детям с ОВЗ и детям-инвалидам, несовершеннолетним правонарушителям и др. категор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- внедрение инновационных подходов и современных технологий психолого-педагогической, медицинской и социальной помощи детям и их ближайшему окружению,  оказание помощи организациям, осуществляющим образовательную деятельность, по вопросам обучения и воспитания,   повышение квалификации участников образовательного процесс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- обеспечение психологически комфортных, педагогически и социально оправданных условий психолого-педагогической, медицинской и социальной помощи, соответствующих требованиям надзорных органов и повышающих удовлетворенность потребителей образовательных услуг МКУДО ЦППМСП совершенствование материально-технической базы,  совершенствование деятельности ПМ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131760"/>
            <a:ext cx="82216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РАБОТА ТЕРРИТОРИАЛЬНОЙ ПМП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79280" y="1600200"/>
            <a:ext cx="8499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Медико-психолого-педагогическая 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диагностика: 1756 ребёнка и подрост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бследовано за 2019-2020 уч. год, из них уча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интегрированных в общеобразовательн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ространство с 1 по 9 класс -454 ребё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Медико-психолого-педагогическо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консультирова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родителей – 1023  ч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едагогов — 175 ч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6443640" y="2060640"/>
            <a:ext cx="2357640" cy="3744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179280" y="561960"/>
            <a:ext cx="158436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967280" y="3384720"/>
            <a:ext cx="25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519120" y="69228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бучение  в группах коррекционно-развивающей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направленности в МКУДО ЦППМСП по прогр. доп.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браз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1. Группы коррекции и развития школьных навыков письма и чтения и речемыслительных процесс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2. Группа коррекции и развития познавательных способностей и каллиграф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3.Группа коррекции личностных проблем и развития коммуникативных способностей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Всего получают помощь течение года 31 учащийся 1-х-2-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бщеобразовательных школ г. Кировска нуждающихся в помощи логопеда, психолога , дефектолога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27612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627120" y="-17136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П сопровождение несовершеннолет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6e6e6"/>
                </a:solidFill>
                <a:latin typeface="Arial"/>
              </a:rPr>
              <a:t>правонарушителей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в течение 3-х лет в рамках программ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восстановительного правосудия  проведены 12 процеду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примирения сторо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1130400" y="1224000"/>
            <a:ext cx="82296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5472000" y="3284640"/>
            <a:ext cx="3672000" cy="20016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755640" y="2349360"/>
            <a:ext cx="464328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e6e6e6"/>
                </a:solidFill>
                <a:latin typeface="Arial"/>
              </a:rPr>
              <a:t>Подготовка и предоставление в суд, органы предварительного расследования информации о личности несовершеннолетнего  правонарушителя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: В течение работы специалисты центра участвовали в рассмотрении дел 42-х подростков-подсудимых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216000" y="3311640"/>
            <a:ext cx="8207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МПП сопровождение интеграции детей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 ОВЗ в общеобразовательное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остранство осуществляется через взаимодействие  Территориальной ПМПК и ПМП консилиумов образовательных учреждений на основе  совместного договора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 течение  учебного года проходит более 30 совместных выездных заседаний ТПМПК и ПП косилиумов  дошкольных и школьных учреждений района, с целью подведения итогов работы коррекционных групп и организации ПП сопровождения детей группы риска на период адаптации в школе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600200"/>
            <a:ext cx="116208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457200" y="13176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2"/>
          <p:cNvGrpSpPr/>
          <p:nvPr/>
        </p:nvGrpSpPr>
        <p:grpSpPr>
          <a:xfrm>
            <a:off x="914400" y="1778040"/>
            <a:ext cx="7308720" cy="4060800"/>
            <a:chOff x="914400" y="1778040"/>
            <a:chExt cx="7308720" cy="4060800"/>
          </a:xfrm>
        </p:grpSpPr>
        <p:sp>
          <p:nvSpPr>
            <p:cNvPr id="139" name="Line 3"/>
            <p:cNvSpPr/>
            <p:nvPr/>
          </p:nvSpPr>
          <p:spPr>
            <a:xfrm flipH="1" flipV="1">
              <a:off x="3246120" y="2965320"/>
              <a:ext cx="795240" cy="54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4"/>
            <p:cNvSpPr/>
            <p:nvPr/>
          </p:nvSpPr>
          <p:spPr>
            <a:xfrm>
              <a:off x="1895400" y="2155680"/>
              <a:ext cx="1660680" cy="9306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мите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оциально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защи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5"/>
            <p:cNvSpPr/>
            <p:nvPr/>
          </p:nvSpPr>
          <p:spPr>
            <a:xfrm flipH="1" flipV="1">
              <a:off x="2549520" y="3645000"/>
              <a:ext cx="1208160" cy="141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>
              <a:off x="914400" y="3111480"/>
              <a:ext cx="166068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бщеобразователь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школ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H="1">
              <a:off x="2792520" y="4097160"/>
              <a:ext cx="1063440" cy="328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8"/>
            <p:cNvSpPr/>
            <p:nvPr/>
          </p:nvSpPr>
          <p:spPr>
            <a:xfrm>
              <a:off x="1255680" y="4199040"/>
              <a:ext cx="166068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МДО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 flipH="1">
              <a:off x="3859200" y="4303800"/>
              <a:ext cx="433440" cy="625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2759040" y="4908600"/>
              <a:ext cx="166068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Детски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до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4856040" y="4303800"/>
              <a:ext cx="403200" cy="623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4718160" y="4908600"/>
              <a:ext cx="166032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Цент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оциально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реабилитац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13"/>
            <p:cNvSpPr/>
            <p:nvPr/>
          </p:nvSpPr>
          <p:spPr>
            <a:xfrm>
              <a:off x="5294160" y="4097160"/>
              <a:ext cx="1032120" cy="32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6221520" y="4199040"/>
              <a:ext cx="166032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ррекцион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Школы-интерна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5"/>
            <p:cNvSpPr/>
            <p:nvPr/>
          </p:nvSpPr>
          <p:spPr>
            <a:xfrm flipV="1">
              <a:off x="5392800" y="3642840"/>
              <a:ext cx="1173240" cy="142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6562800" y="3111480"/>
              <a:ext cx="166032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ПП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Д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7"/>
            <p:cNvSpPr/>
            <p:nvPr/>
          </p:nvSpPr>
          <p:spPr>
            <a:xfrm flipV="1">
              <a:off x="5106960" y="2965320"/>
              <a:ext cx="760320" cy="54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5581800" y="2155680"/>
              <a:ext cx="1660320" cy="9306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митет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бразов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9"/>
            <p:cNvSpPr/>
            <p:nvPr/>
          </p:nvSpPr>
          <p:spPr>
            <a:xfrm flipV="1">
              <a:off x="4572000" y="2698920"/>
              <a:ext cx="0" cy="699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3736800" y="1778040"/>
              <a:ext cx="166068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тдел опек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 попечительств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3736800" y="3394080"/>
              <a:ext cx="166068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8" name="Picture 22" descr=""/>
          <p:cNvPicPr/>
          <p:nvPr/>
        </p:nvPicPr>
        <p:blipFill>
          <a:blip r:embed="rId1"/>
          <a:stretch/>
        </p:blipFill>
        <p:spPr>
          <a:xfrm>
            <a:off x="3629160" y="3284640"/>
            <a:ext cx="1885680" cy="1081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3"/>
          <p:cNvSpPr/>
          <p:nvPr/>
        </p:nvSpPr>
        <p:spPr>
          <a:xfrm>
            <a:off x="457200" y="130320"/>
            <a:ext cx="82281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циальное взаимодействие МКУДО ЦППМСП по ППсопровождению  детей с ОВ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6:52:08Z</dcterms:created>
  <dc:creator>user</dc:creator>
  <dc:description/>
  <dc:language>en-US</dc:language>
  <cp:lastModifiedBy>ЦДиК</cp:lastModifiedBy>
  <dcterms:modified xsi:type="dcterms:W3CDTF">2020-10-08T07:42:40Z</dcterms:modified>
  <cp:revision>64</cp:revision>
  <dc:subject/>
  <dc:title>ИСПОЛЬЗОВАНИЕ ИНДИВИДУАЛЬНОГО ПОДХОДА В ПРОЦЕССЕ ОБУЧЕНИЯ И ПСИХОЛОГО-ПЕДАГОГИЧЕСКОГО СОПРОВОЖДЕНИЯ</dc:title>
</cp:coreProperties>
</file>